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4245-6AD7-44BE-B6A2-525ED2CD7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1553-6CFE-4E8A-80F8-D2FB5819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B4E5-93C1-4A0B-AC6C-9CD24736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9FE6-B51E-4362-8202-88ACF1DC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E30D-4E51-4A56-8A94-8BB9CEDB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DFF7-E8D2-476F-9BBB-FD4DFBC9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BA08-04B1-4AE0-B927-964BF0D2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F234-945D-4F8A-8D5E-A74509CE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3E21-C5D7-4208-9747-216DC00A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6747-8B36-47C3-9829-71354CAA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8DB0-3943-491F-91E5-711238BFC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62B7-2825-4DE2-9111-9FC1B3630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1031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0" name="Picture 1032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1033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2" name="Picture 1034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69D8-60F2-4067-8D86-9C566FAE0C50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3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3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3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3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8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3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9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EST AND STAGN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ESTERN WORLD, 1965–198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Germany Restore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y Brandt (1913-1992), 1969-197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tpolitik, “opening toward the eas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y with East Germany, 197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mut Schmide (b. 191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ocrat; concerned with economic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mut Kohl (b. 193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of u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Great Britain: Thatcher then Blai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1640" y="1447920"/>
            <a:ext cx="776916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cher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of Northern Ire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rule from London, 19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ervatives gain political power, 197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tical changes of Prime Minister Margaret Thatcher (b. 192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ke power of the labor un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sterity to control inf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 line toward commu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builds the mili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kland Is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Uncertainties in France and Ital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5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nçois Mitterrand (1916-1995) , 1981-19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onomic difficul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stic poli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onomic weaknesses of the 199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usion in Ita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ulio Andreo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commu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70s, Italy had severe economic rec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do Mo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 Brig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The United States: Turmoil and Tranquility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chard Nixon (1913-1994) elected in 19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s Vietnam war, 197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gate scan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gnation, August 9, 197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immy Carter (b. 1924), 1976-19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gflation – high inflation and unemplo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il embargo, 197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 hostages held by I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nald Reagan (b. 1911), 1981-198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erses the welfare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itary build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ly-side econo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ar in Kosov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 erupted in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hnic Alban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pped of autonomous status in 198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sovo Liberation Ar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 and NATO interv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osevic refused to sign agreement and NATO resumes air stri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osovic ousted from office in fall elections,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ught to trial by an international tribunal for war crimes against huma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Disintegration of Yugoslav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th of Tito in 19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gue of Communis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990 republics of Slovenia, Croatia, Bosnia, Herzegovina, and Macedonia worked toward a federal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bodan Milosevic rejects these efforts without new border arrangements to accommodate Serb minor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venia and Croatia declare in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ugoslavian army sent to attach Croat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my becoming more and more a Serbian Ar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2 Serbs turn on Bosnia-Herzegov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hnic clean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O strikes 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Contemporary Canada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erre Trudeau (1919-2000), elected in 196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ian Mulroney (b. 1939), elected in 198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b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é Léves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 Québéco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8" descr="WCB3e_unm29"/>
          <p:cNvPicPr/>
          <p:nvPr/>
        </p:nvPicPr>
        <p:blipFill>
          <a:blip r:embed="rId1"/>
          <a:stretch/>
        </p:blipFill>
        <p:spPr>
          <a:xfrm>
            <a:off x="1447920" y="1066680"/>
            <a:ext cx="6705360" cy="56055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9"/>
          <p:cNvSpPr/>
          <p:nvPr/>
        </p:nvSpPr>
        <p:spPr>
          <a:xfrm rot="16200000">
            <a:off x="-1069920" y="3635640"/>
            <a:ext cx="50832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©2003 Wadsworth, a division of Thomson Learning, Inc.  Thomson Learning</a:t>
            </a:r>
            <a:r>
              <a:rPr b="0" lang="en-US" sz="800" spc="-1" strike="noStrike" baseline="-25000">
                <a:solidFill>
                  <a:srgbClr val="000000"/>
                </a:solidFill>
                <a:latin typeface="Times New Roman"/>
              </a:rPr>
              <a:t>™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is a trademark used herein under licens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Quebec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Vietnam Wa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ident Lyndon Johnson sends larger numbers of troops to Vietnam, 19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ino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communists succeed in Vietnam, other nations inn Asia would fall to commu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ident Richard Nixon (1913-1994) vows to bring an honorabl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ins withdrawing tro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ace treaty signed January 1973 calls for removal of all US tro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6400800" y="358128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76760" y="380880"/>
            <a:ext cx="2361960" cy="601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Vietnam Wa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5" name="Picture 4" descr="WCB3e_unm28"/>
          <p:cNvPicPr/>
          <p:nvPr/>
        </p:nvPicPr>
        <p:blipFill>
          <a:blip r:embed="rId1"/>
          <a:stretch/>
        </p:blipFill>
        <p:spPr>
          <a:xfrm>
            <a:off x="1622520" y="304920"/>
            <a:ext cx="4854600" cy="62481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 rot="16205400">
            <a:off x="-383760" y="4408560"/>
            <a:ext cx="3997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©2003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adsworth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, a division of Thomson Learning, Inc.  Thomson Learning</a:t>
            </a:r>
            <a:r>
              <a:rPr b="0" lang="en-US" sz="600" spc="-1" strike="noStrike" baseline="-25000">
                <a:solidFill>
                  <a:srgbClr val="000000"/>
                </a:solidFill>
                <a:latin typeface="Times New Roman"/>
              </a:rPr>
              <a:t>™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is a trademark used herein under license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 Culture of Protes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volt in Sexual M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th Protest and Student Revo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eminist Mo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iwar Prot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China and the Cold War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o Zedong (1893-197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ctory in 194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vization of all farmland and most industry and commerce nationalized, 19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at Proletarian Cultural Revolution, 1966-19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 Guar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xon visited China and met with Mao Zedong in 197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owards a New World Order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240" y="1676520"/>
            <a:ext cx="7620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ét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iballistic Missile Treaty, 197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sinki Agreements, 197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man rights becomes an issue with President Car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viet invasion of Afghanistan, 197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ident Ronald Reagan’s “evil empi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Science and Technology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w World of Science and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itary-Industrial 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rman rockets; j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itish work in comp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. Robert Oppenheimer and the Atomic Bo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ngers of Sc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F. Schumacher (1911-1977), Small is Beauti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The Environment and the Green Movements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s in the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rnobyl, 198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en pa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Postmodern Thought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1640" y="1142640"/>
            <a:ext cx="7769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moder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rdinand de Sau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gnifier and the sign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cques Derr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structuralism, or dec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hel Fouca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istory of Sex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Trends in Art, Literature and Music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240" y="14475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mod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en Kap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d 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bert Ventu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les Mo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azzad’Ita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modernism in liter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briel Garcı´a Ma´ rqu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an Kund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ivier Messia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ilip G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Popular Culture: </a:t>
            </a:r>
            <a:br>
              <a:rPr sz="4000"/>
            </a:b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Image and Globalization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1640" y="1447560"/>
            <a:ext cx="77691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r mus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imentation in rock and ro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deo mus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51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T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wth of Mass S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ympic G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ack Sept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datory drug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ericanized Global 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shall McLu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are global not just n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Discussion Question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ine the policies of Brezhnev. Are they old guard communist or a transition between the old Soviet regime and the more modern Soviet state to co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id Margaret Thatcher shape the position of Great Britain in power structure of world poli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détente? How did the policies of Nixon influence relations between the West and the communist wor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nfluence does business and politics play in the Olympic Gam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Web links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69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idarity in Pol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tnam 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rnoby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mut Ko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aret Th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nald Rea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governmental organ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8" descr="WCB3e_m29"/>
          <p:cNvPicPr/>
          <p:nvPr/>
        </p:nvPicPr>
        <p:blipFill>
          <a:blip r:embed="rId1"/>
          <a:stretch/>
        </p:blipFill>
        <p:spPr>
          <a:xfrm>
            <a:off x="1219320" y="1371600"/>
            <a:ext cx="7924680" cy="52689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0"/>
          <p:cNvSpPr/>
          <p:nvPr/>
        </p:nvSpPr>
        <p:spPr>
          <a:xfrm rot="16200000">
            <a:off x="-959760" y="3791160"/>
            <a:ext cx="3997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©2003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adsworth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, a division of Thomson Learning, Inc.  Thomson Learning</a:t>
            </a:r>
            <a:r>
              <a:rPr b="0" lang="en-US" sz="600" spc="-1" strike="noStrike" baseline="-25000">
                <a:solidFill>
                  <a:srgbClr val="000000"/>
                </a:solidFill>
                <a:latin typeface="Times New Roman"/>
              </a:rPr>
              <a:t>™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is a trademark used herein under license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New Europ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Stagnation in the Soviet Un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onid Brezhnev (1906-198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zhnev Doctrine – right to intervene if socialism threate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to Western styles of dress, music, and 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 on heavy 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, industrial growth decl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act of central economic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icultural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d harvests in mid-1970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willing to tamper with the party leadership and state bureauc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ious internal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WCB3e_unm29"/>
          <p:cNvPicPr/>
          <p:nvPr/>
        </p:nvPicPr>
        <p:blipFill>
          <a:blip r:embed="rId1"/>
          <a:stretch/>
        </p:blipFill>
        <p:spPr>
          <a:xfrm>
            <a:off x="1066680" y="609480"/>
            <a:ext cx="5791320" cy="5769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 rot="16199400">
            <a:off x="-993240" y="4255920"/>
            <a:ext cx="3997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©2003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adsworth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, a division of Thomson Learning, Inc.  Thomson Learning</a:t>
            </a:r>
            <a:r>
              <a:rPr b="0" lang="en-US" sz="600" spc="-1" strike="noStrike" baseline="-25000">
                <a:solidFill>
                  <a:srgbClr val="000000"/>
                </a:solidFill>
                <a:latin typeface="Times New Roman"/>
              </a:rPr>
              <a:t>™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is a trademark used herein under license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81680" y="380880"/>
            <a:ext cx="2362320" cy="594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Chechnya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Conformity in Eastern Europe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1640" y="1142640"/>
            <a:ext cx="7769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Gierek, 1971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conomic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id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ch Walesa (b. 194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ng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no Kadar in power for more than 3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s slowly toward legalizing small private enterpr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echoslovak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st government collapsed in 19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clav Havel was in control of the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exander Dubc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stav Husa´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The Berlin Wall 1961 -1989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99" name="Picture 5" descr="berlin_wall"/>
          <p:cNvPicPr/>
          <p:nvPr/>
        </p:nvPicPr>
        <p:blipFill>
          <a:blip r:embed="rId1"/>
          <a:stretch/>
        </p:blipFill>
        <p:spPr>
          <a:xfrm>
            <a:off x="1752480" y="1371600"/>
            <a:ext cx="7010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Repression in East Germany and Romania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t Ger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lter Ulbr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ich Honec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ma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colae Ceausescu and his wife, El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d Romania with an iron gr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estern Europe: The Winds of Chang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onomic recessions, mid-1970’s and early 1980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 in the price of 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ation of economies –European Economic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y on European Un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uropean Community became the European Union, 199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uro,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23:26:42Z</dcterms:created>
  <dc:creator>Darlene L. Wise</dc:creator>
  <dc:description/>
  <dc:language>en-US</dc:language>
  <cp:lastModifiedBy>Local User</cp:lastModifiedBy>
  <dcterms:modified xsi:type="dcterms:W3CDTF">2013-04-23T11:01:28Z</dcterms:modified>
  <cp:revision>178</cp:revision>
  <dc:subject/>
  <dc:title>Chapter 29</dc:title>
</cp:coreProperties>
</file>